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D2F-46AF-4D65-A993-542A3AE35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4C07-A3A2-4E75-B1B8-B5A0CC1C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E783-86C4-4B03-A097-A9DFAA51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EEA-282A-4543-9BBF-C1ABA9BF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5C9D-812C-4DB1-B572-9982F671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FDDB-64D4-494C-8B30-489AC44B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6F8-DE7F-4A12-AB56-E4EDC73A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185-30FF-489D-8C5F-339731D1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0A1-5B3F-4068-AED2-8DFA690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CEB-385B-419C-897A-DA125709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189-1129-45DF-9B7B-6971B43E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A22-FB1C-4E39-A9EB-B68F7F1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B85-8F6C-43DC-8004-148A4866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D23-FCF1-4C61-8069-5A924366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F5F-01CD-4D9A-8A55-3CEBFB2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832-C165-450B-9EE7-653B9372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F73-5DB8-42C8-BE32-8CEE81D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063-683B-4300-A495-3C572915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F09-A956-4628-9A4D-3A8325A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FC1A-374B-45D4-BD8B-2BF3805B3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identify liv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It is a 2-part ke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all 6 Kingdoms, using their Latin na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chaebacteria, Eubacteria, Protista, Fungi, Plantae,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order from least specific to most specific, name the 7 levels of classification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dom, Phylum, Class, Order, Family, Genus, Spec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which kingdom to viruses bel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None.  They are not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living organis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basic structure of all viru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sid (protein coat) and Nucleic Acid (RNA or D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diseases caused by viru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21932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DS, common cold, influenza (flu), mononucleosis, smallpox, chicken pox, measles, mumps, etc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4 basic steps of viral replication (in the correct order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447920" y="2819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achment, Synthesis, Assembly, Rel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447920" y="20574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flu vaccine as an example, describe how vaccines allow your body to develop immunity against a vir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609480"/>
            <a:ext cx="632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ccine contains inactivated flu virus particles;  injection of flu vaccine causes your body to produce antibodies against the flu virus;  when you are exposed to the real flu virus, your body</a:t>
            </a: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 immune system quickly recognizes the virus and produces the appropriate antibodies against it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characteristics of all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27"/>
          <p:cNvSpPr/>
          <p:nvPr/>
        </p:nvSpPr>
        <p:spPr>
          <a:xfrm>
            <a:off x="1371600" y="1447920"/>
            <a:ext cx="63244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s are prokaryotic; bacteria are single-celled; contain no membrane-bound organelles; have a single chromosome; reproduce asexuall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3 main groups of Archae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mophiles, Halophiles, Methano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3 main groups of protis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457200" y="419112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Ms Kha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imal-like, Plant-like, and Fungi-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difference between a bacteria that is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blig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erob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one that is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acult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aerob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bliga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ero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ust live in an environment with oxygen; 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aculta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naero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fers environments with oxygen, but can live without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1 disease caused by a protist and the name of the protist (Latin genus) that causes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447920" y="2666880"/>
            <a:ext cx="63244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1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laria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lasmodium viva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;  giardia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Giardia lambl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; urinary tract infection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richomonas vaginal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;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imilarit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ts and Fungi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371600" y="339084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s are eukaryotic;  numerous organelle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cell walls;  most are anchored in s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substrate;  stationary;  reproduction can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exual, sexual, or b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tween Fungi and Pla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447920" y="685800"/>
            <a:ext cx="63244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gi can have more than 1 nucleus in a cell (plants cannot);  starch is the main storage molecule in plants;  most plants have roots;  plants have cellulose, fungi have chitin in cell walls;  no fungi reproduce by s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0" y="1219320"/>
            <a:ext cx="1676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Class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ir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cteri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t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ung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l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772400" y="1219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lich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ombination of a green algae (cyanobacteria) and a fungus, growing together in a symbiotic relationsh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How do the fungi help the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in mycorrhiza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gi help the plant roots to absorb nutrients such as phosphoru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4 main groups of plants, and describe what distinguishes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990720"/>
            <a:ext cx="63244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no vascula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ern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no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ymnosperm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seeds, but no fruits (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ked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eed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giosperm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seeds produced in fruits;  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What are the 2 broad divisions (grou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in the Animal Kingd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ebrates &amp; Inverteb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2 types of symmetry in animal bod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dial symmetry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ateral sym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science of classification call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5 main groups of the Phylum Chor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h, amphibians, reptiles, birds, mam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are classified on the basis of presence or absence of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elo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What is a coelom and what is its fun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295280" y="152388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oelo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body cavity (located between the body wall and the gut) and it contains and protects the internal org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any 3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zy Creatures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our present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 3 of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xolotl, aye-aye, angler fish, komondor dog, etc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y of animal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44792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egories used to classify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teria that live in the absence of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ligate anaero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ategory of viruses that infect and destroy bacterial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terioph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3716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istory of the evolution of a species or a group of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371600" y="2590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yloge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219320" y="281952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percentage of your final mark are the Diversity of Life questions on the Final Exa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19320" y="243828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/115 marks = 19.1% of the ex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.1% of 25% of your final mar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.e. 4.8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method of naming organisms by their genus &amp; species call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nomial nomencl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dichotomous key use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ubina khan</cp:lastModifiedBy>
  <dcterms:modified xsi:type="dcterms:W3CDTF">2016-01-20T14:20:54Z</dcterms:modified>
  <cp:revision>98</cp:revision>
  <dc:subject/>
  <dc:title>No Slide Title</dc:title>
</cp:coreProperties>
</file>